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8A0A-2FEE-4939-82C1-E957217B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FBA-6F20-44B7-A5C5-269C8BB2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C90-2F3B-4CCE-9F96-C4401EF37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90B-088A-465E-9E3D-225F989F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9911-A87C-4FEB-8CC9-AE5EB8EC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61EB-64F2-457C-BA81-63EC838D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9E55-C9DE-473B-AE33-9835313F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DE91-597F-46D2-AEB0-C8600690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FAE0-2DFF-420C-BE9A-F9FCF51D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F56E-58B0-4FE6-89A4-EC18D682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A084-8F37-432A-BE3D-06C029CC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BF6-2A54-4C10-A609-93B2A615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2916-4713-45D4-B5C1-D27999E1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684F-5686-4786-A5AA-A8682892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78FC-25B5-4E3E-A3FD-C56F391F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4DD4-3091-486A-9436-763CE403E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9383-7DE0-4537-AA38-F729097A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5DD-B988-45DE-BEA9-D5A23628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54E1-47C1-4289-8A1C-55D5DBEB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1C1-3D92-4393-8540-1E533229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E416-A381-4140-8CCA-C03C34B4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B4E6-DA06-44A8-8009-88E4CC7F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C2A0-6A78-49CE-B4BC-EE2C9461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85ED-59B3-4A77-BC8D-EA6EED61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5994-BFD3-4778-B6D7-5FE3EE78A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4668-5A82-4249-BB92-FA4F950DBF5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553080" cy="3936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lbertus Extra Bold"/>
              </a:rPr>
              <a:t>Ch. 18:</a:t>
            </a:r>
            <a:r>
              <a:rPr b="1" i="1" lang="en-US" sz="4400" spc="-1" strike="noStrike">
                <a:solidFill>
                  <a:srgbClr val="ffffcc"/>
                </a:solidFill>
                <a:latin typeface="Albertus Extra Bold"/>
              </a:rPr>
              <a:t> </a:t>
            </a:r>
            <a:br>
              <a:rPr sz="44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US" sz="4400" spc="-1" strike="noStrike">
                <a:solidFill>
                  <a:srgbClr val="ffffcc"/>
                </a:solidFill>
                <a:latin typeface="Albertus Extra Bold"/>
              </a:rPr>
              <a:t>Management</a:t>
            </a:r>
            <a:br>
              <a:rPr sz="4400"/>
            </a:br>
            <a:br>
              <a:rPr sz="2400"/>
            </a:br>
            <a:r>
              <a:rPr b="1" lang="en-US" sz="3600" spc="-1" strike="noStrike">
                <a:solidFill>
                  <a:srgbClr val="ffffcc"/>
                </a:solidFill>
                <a:latin typeface="Albertus Extra Bold"/>
              </a:rPr>
              <a:t>and Short-Term Financing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1219320" y="2057400"/>
            <a:ext cx="670536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" name="Group 8"/>
          <p:cNvGrpSpPr/>
          <p:nvPr/>
        </p:nvGrpSpPr>
        <p:grpSpPr>
          <a:xfrm>
            <a:off x="1143000" y="914400"/>
            <a:ext cx="6859440" cy="3276720"/>
            <a:chOff x="1143000" y="914400"/>
            <a:chExt cx="6859440" cy="3276720"/>
          </a:xfrm>
        </p:grpSpPr>
        <p:sp>
          <p:nvSpPr>
            <p:cNvPr id="129" name="Line 4"/>
            <p:cNvSpPr/>
            <p:nvPr/>
          </p:nvSpPr>
          <p:spPr>
            <a:xfrm>
              <a:off x="1219320" y="914400"/>
              <a:ext cx="678312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>
              <a:off x="1143000" y="2057400"/>
              <a:ext cx="339084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4572000" y="914400"/>
              <a:ext cx="1440" cy="327672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2" name="Line 7"/>
          <p:cNvSpPr/>
          <p:nvPr/>
        </p:nvSpPr>
        <p:spPr>
          <a:xfrm>
            <a:off x="4572000" y="2057400"/>
            <a:ext cx="33908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219320" y="2057400"/>
            <a:ext cx="6705360" cy="2133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uppose we us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ong-term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financing to finance some of our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urrent asset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1143000" y="914400"/>
            <a:ext cx="6859440" cy="3276720"/>
            <a:chOff x="1143000" y="914400"/>
            <a:chExt cx="6859440" cy="3276720"/>
          </a:xfrm>
        </p:grpSpPr>
        <p:sp>
          <p:nvSpPr>
            <p:cNvPr id="136" name="Line 5"/>
            <p:cNvSpPr/>
            <p:nvPr/>
          </p:nvSpPr>
          <p:spPr>
            <a:xfrm>
              <a:off x="1219320" y="914400"/>
              <a:ext cx="678312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Line 6"/>
            <p:cNvSpPr/>
            <p:nvPr/>
          </p:nvSpPr>
          <p:spPr>
            <a:xfrm>
              <a:off x="1143000" y="2057400"/>
              <a:ext cx="339084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Line 7"/>
            <p:cNvSpPr/>
            <p:nvPr/>
          </p:nvSpPr>
          <p:spPr>
            <a:xfrm>
              <a:off x="4572000" y="914400"/>
              <a:ext cx="1440" cy="327672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9" name="Line 8"/>
          <p:cNvSpPr/>
          <p:nvPr/>
        </p:nvSpPr>
        <p:spPr>
          <a:xfrm>
            <a:off x="4572000" y="2057400"/>
            <a:ext cx="33908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9"/>
          <p:cNvSpPr/>
          <p:nvPr/>
        </p:nvSpPr>
        <p:spPr>
          <a:xfrm>
            <a:off x="4572000" y="1676520"/>
            <a:ext cx="3429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219320" y="2057400"/>
            <a:ext cx="6781680" cy="205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uppose we us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ong-term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financing to finance some of our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urrent asset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1143000" y="914400"/>
            <a:ext cx="6859440" cy="3276720"/>
            <a:chOff x="1143000" y="914400"/>
            <a:chExt cx="6859440" cy="3276720"/>
          </a:xfrm>
        </p:grpSpPr>
        <p:sp>
          <p:nvSpPr>
            <p:cNvPr id="144" name="Line 4"/>
            <p:cNvSpPr/>
            <p:nvPr/>
          </p:nvSpPr>
          <p:spPr>
            <a:xfrm>
              <a:off x="1219320" y="914400"/>
              <a:ext cx="678312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Line 5"/>
            <p:cNvSpPr/>
            <p:nvPr/>
          </p:nvSpPr>
          <p:spPr>
            <a:xfrm>
              <a:off x="1143000" y="2057400"/>
              <a:ext cx="339084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4572000" y="914400"/>
              <a:ext cx="1440" cy="327672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7" name="Line 7"/>
          <p:cNvSpPr/>
          <p:nvPr/>
        </p:nvSpPr>
        <p:spPr>
          <a:xfrm>
            <a:off x="4572000" y="1676520"/>
            <a:ext cx="33908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4572000" y="1676520"/>
            <a:ext cx="3429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219320" y="2057400"/>
            <a:ext cx="6781680" cy="205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uppose we us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ong-term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financing to finance some of our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urrent asset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is strategy would be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less risky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but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more expensive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1" name="Group 5"/>
          <p:cNvGrpSpPr/>
          <p:nvPr/>
        </p:nvGrpSpPr>
        <p:grpSpPr>
          <a:xfrm>
            <a:off x="1143000" y="914400"/>
            <a:ext cx="6859440" cy="3276720"/>
            <a:chOff x="1143000" y="914400"/>
            <a:chExt cx="6859440" cy="3276720"/>
          </a:xfrm>
        </p:grpSpPr>
        <p:sp>
          <p:nvSpPr>
            <p:cNvPr id="152" name="Line 6"/>
            <p:cNvSpPr/>
            <p:nvPr/>
          </p:nvSpPr>
          <p:spPr>
            <a:xfrm>
              <a:off x="1219320" y="914400"/>
              <a:ext cx="678312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Line 7"/>
            <p:cNvSpPr/>
            <p:nvPr/>
          </p:nvSpPr>
          <p:spPr>
            <a:xfrm>
              <a:off x="1143000" y="2057400"/>
              <a:ext cx="339084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Line 8"/>
            <p:cNvSpPr/>
            <p:nvPr/>
          </p:nvSpPr>
          <p:spPr>
            <a:xfrm>
              <a:off x="4572000" y="914400"/>
              <a:ext cx="1440" cy="327672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5" name="Line 9"/>
          <p:cNvSpPr/>
          <p:nvPr/>
        </p:nvSpPr>
        <p:spPr>
          <a:xfrm>
            <a:off x="4572000" y="1676520"/>
            <a:ext cx="33908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1219320" y="914400"/>
            <a:ext cx="6781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urrent Assets      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1219320" y="914400"/>
            <a:ext cx="678312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572000" y="2057400"/>
            <a:ext cx="33908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4572000" y="914400"/>
            <a:ext cx="1440" cy="327672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1219320" y="2057400"/>
            <a:ext cx="33908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219320" y="914400"/>
            <a:ext cx="6781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urrent Assets      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uppose we us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urrent liabilitie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to finance some of our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fixed asset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1219320" y="914400"/>
            <a:ext cx="678312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4572000" y="2057400"/>
            <a:ext cx="33908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4572000" y="914400"/>
            <a:ext cx="1440" cy="327672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1219320" y="2057400"/>
            <a:ext cx="33908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1219320" y="914400"/>
            <a:ext cx="6781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uppose we us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urrent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iabilitie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to finance some of our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fixed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1219320" y="914400"/>
            <a:ext cx="678312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572000" y="2438280"/>
            <a:ext cx="33908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4572000" y="914400"/>
            <a:ext cx="1440" cy="327672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1219320" y="2057400"/>
            <a:ext cx="33908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219320" y="914400"/>
            <a:ext cx="6781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uppose we use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urrent liabilitie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to finance some of our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fixed asset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is strategy would b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ess expensiv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but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re risky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1219320" y="914400"/>
            <a:ext cx="678312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4572000" y="2438280"/>
            <a:ext cx="33908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4572000" y="914400"/>
            <a:ext cx="1440" cy="327672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1219320" y="2057400"/>
            <a:ext cx="339084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1722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The Hedging Principl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ermanen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sset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(those held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&gt;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1 year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hould be financed with permanent and spontaneous sources of financ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mporary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sset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(those held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&lt;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1 year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hould be financed with temporary sources of financ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emporary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urrent Asset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609480" y="914400"/>
            <a:ext cx="8209080" cy="4908600"/>
            <a:chOff x="609480" y="914400"/>
            <a:chExt cx="8209080" cy="4908600"/>
          </a:xfrm>
        </p:grpSpPr>
        <p:sp>
          <p:nvSpPr>
            <p:cNvPr id="186" name="Line 4"/>
            <p:cNvSpPr/>
            <p:nvPr/>
          </p:nvSpPr>
          <p:spPr>
            <a:xfrm>
              <a:off x="609480" y="914400"/>
              <a:ext cx="8209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Line 5"/>
            <p:cNvSpPr/>
            <p:nvPr/>
          </p:nvSpPr>
          <p:spPr>
            <a:xfrm>
              <a:off x="609480" y="2514600"/>
              <a:ext cx="8209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Line 6"/>
            <p:cNvSpPr/>
            <p:nvPr/>
          </p:nvSpPr>
          <p:spPr>
            <a:xfrm>
              <a:off x="4572000" y="914400"/>
              <a:ext cx="0" cy="490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55308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Working-Capital Management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urrent Asse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ash, marketable securities, inventory, accounts receiv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ng-Term Asse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quipment, buildings, l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hich earn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higher rates of return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hich help avoid risk of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lliquidity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emporary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empor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hort-term finan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609480" y="914400"/>
            <a:ext cx="8209080" cy="4908600"/>
            <a:chOff x="609480" y="914400"/>
            <a:chExt cx="8209080" cy="4908600"/>
          </a:xfrm>
        </p:grpSpPr>
        <p:sp>
          <p:nvSpPr>
            <p:cNvPr id="191" name="Line 4"/>
            <p:cNvSpPr/>
            <p:nvPr/>
          </p:nvSpPr>
          <p:spPr>
            <a:xfrm>
              <a:off x="609480" y="914400"/>
              <a:ext cx="8209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Line 5"/>
            <p:cNvSpPr/>
            <p:nvPr/>
          </p:nvSpPr>
          <p:spPr>
            <a:xfrm>
              <a:off x="609480" y="2514600"/>
              <a:ext cx="8209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Line 6"/>
            <p:cNvSpPr/>
            <p:nvPr/>
          </p:nvSpPr>
          <p:spPr>
            <a:xfrm>
              <a:off x="4572000" y="914400"/>
              <a:ext cx="0" cy="490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emporary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Tempor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Short-term finan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ermanen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xed Asset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609480" y="914400"/>
            <a:ext cx="8209080" cy="4908600"/>
            <a:chOff x="609480" y="914400"/>
            <a:chExt cx="8209080" cy="4908600"/>
          </a:xfrm>
        </p:grpSpPr>
        <p:sp>
          <p:nvSpPr>
            <p:cNvPr id="196" name="Line 4"/>
            <p:cNvSpPr/>
            <p:nvPr/>
          </p:nvSpPr>
          <p:spPr>
            <a:xfrm>
              <a:off x="609480" y="914400"/>
              <a:ext cx="8209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609480" y="2514600"/>
              <a:ext cx="8209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4572000" y="914400"/>
              <a:ext cx="0" cy="490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emporary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Tempor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Short-term finan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ermanent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ermanent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pontaneo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nan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609480" y="914400"/>
            <a:ext cx="8209080" cy="4908600"/>
            <a:chOff x="609480" y="914400"/>
            <a:chExt cx="8209080" cy="4908600"/>
          </a:xfrm>
        </p:grpSpPr>
        <p:sp>
          <p:nvSpPr>
            <p:cNvPr id="201" name="Line 4"/>
            <p:cNvSpPr/>
            <p:nvPr/>
          </p:nvSpPr>
          <p:spPr>
            <a:xfrm>
              <a:off x="609480" y="914400"/>
              <a:ext cx="8209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Line 5"/>
            <p:cNvSpPr/>
            <p:nvPr/>
          </p:nvSpPr>
          <p:spPr>
            <a:xfrm>
              <a:off x="609480" y="2514600"/>
              <a:ext cx="820908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Line 6"/>
            <p:cNvSpPr/>
            <p:nvPr/>
          </p:nvSpPr>
          <p:spPr>
            <a:xfrm>
              <a:off x="4572000" y="914400"/>
              <a:ext cx="0" cy="4908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The Hedging Principl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94920" y="137160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rmanent Finan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ntermediate-term loans, long-term debt, preferred stock, common stoc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pontaneous Finan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accounts payable that arise spontaneously in day-to-day operations (trade credit, wages payable, accrued interest and taxe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hort-term finan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unsecured bank loans, commercial paper, loans secured by A/R or invent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640080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erest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principal 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rate 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ti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x:  borrow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$10,00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at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8.5%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for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9 month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erest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$10,000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.085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3/4 ye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$637.5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We can use this simple relationship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erest = principal 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rate 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ti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o solve for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ate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, and get th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295280" y="380880"/>
            <a:ext cx="655344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6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1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We can use this simple relationship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erest = principal 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rate 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ti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o solve for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ate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, and get th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Annual Percentage Rate (APR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295280" y="380880"/>
            <a:ext cx="655344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1752480" y="4572000"/>
            <a:ext cx="6858000" cy="1447920"/>
            <a:chOff x="1752480" y="4572000"/>
            <a:chExt cx="6858000" cy="1447920"/>
          </a:xfrm>
        </p:grpSpPr>
        <p:sp>
          <p:nvSpPr>
            <p:cNvPr id="213" name="Rectangle 3"/>
            <p:cNvSpPr/>
            <p:nvPr/>
          </p:nvSpPr>
          <p:spPr>
            <a:xfrm>
              <a:off x="1752480" y="4572000"/>
              <a:ext cx="6858000" cy="1447920"/>
            </a:xfrm>
            <a:prstGeom prst="rect">
              <a:avLst/>
            </a:prstGeom>
            <a:solidFill>
              <a:srgbClr val="2301cb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Text Box 4"/>
            <p:cNvSpPr/>
            <p:nvPr/>
          </p:nvSpPr>
          <p:spPr>
            <a:xfrm>
              <a:off x="1837080" y="4799160"/>
              <a:ext cx="482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APR  =                      </a:t>
              </a:r>
              <a:r>
                <a:rPr b="1" lang="en-US" sz="4000" spc="-1" strike="noStrike">
                  <a:solidFill>
                    <a:srgbClr val="ffffcc"/>
                  </a:solidFill>
                  <a:latin typeface="Arial"/>
                </a:rPr>
                <a:t>x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Line 5"/>
            <p:cNvSpPr/>
            <p:nvPr/>
          </p:nvSpPr>
          <p:spPr>
            <a:xfrm>
              <a:off x="3885840" y="5257800"/>
              <a:ext cx="182880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Line 6"/>
            <p:cNvSpPr/>
            <p:nvPr/>
          </p:nvSpPr>
          <p:spPr>
            <a:xfrm>
              <a:off x="7086240" y="5257800"/>
              <a:ext cx="114300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We can use this simple relationship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erest = principal 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rate 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ti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to solve for </a:t>
            </a: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ate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, and get th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Annual Percentage Rate (APR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erest                  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incipal             ti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295280" y="380880"/>
            <a:ext cx="655344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47712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1219320" y="1447920"/>
            <a:ext cx="6858000" cy="1447560"/>
            <a:chOff x="1219320" y="1447920"/>
            <a:chExt cx="6858000" cy="1447560"/>
          </a:xfrm>
        </p:grpSpPr>
        <p:sp>
          <p:nvSpPr>
            <p:cNvPr id="221" name="Rectangle 3"/>
            <p:cNvSpPr/>
            <p:nvPr/>
          </p:nvSpPr>
          <p:spPr>
            <a:xfrm>
              <a:off x="1219320" y="1447920"/>
              <a:ext cx="6858000" cy="1447560"/>
            </a:xfrm>
            <a:prstGeom prst="rect">
              <a:avLst/>
            </a:prstGeom>
            <a:solidFill>
              <a:srgbClr val="2301cb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Text Box 4"/>
            <p:cNvSpPr/>
            <p:nvPr/>
          </p:nvSpPr>
          <p:spPr>
            <a:xfrm>
              <a:off x="1303920" y="1674720"/>
              <a:ext cx="482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APR  =                      </a:t>
              </a:r>
              <a:r>
                <a:rPr b="1" lang="en-US" sz="4000" spc="-1" strike="noStrike">
                  <a:solidFill>
                    <a:srgbClr val="ffffcc"/>
                  </a:solidFill>
                  <a:latin typeface="Arial"/>
                </a:rPr>
                <a:t>x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>
              <a:off x="3352680" y="2133360"/>
              <a:ext cx="182880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Line 6"/>
            <p:cNvSpPr/>
            <p:nvPr/>
          </p:nvSpPr>
          <p:spPr>
            <a:xfrm>
              <a:off x="6553080" y="2133360"/>
              <a:ext cx="114300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9907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erest                  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incipal             ti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47712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533520" y="4419720"/>
            <a:ext cx="7924680" cy="205740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55308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Working-Capital Management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urren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sse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ash, marketable securities, inventory, accounts receiv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ng-Term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sse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quipment, buildings, l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isk-Return Trade-off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urrent assets earn low returns, but help reduce th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risk of illiquidit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1219320" y="1447920"/>
            <a:ext cx="6858000" cy="1447560"/>
            <a:chOff x="1219320" y="1447920"/>
            <a:chExt cx="6858000" cy="1447560"/>
          </a:xfrm>
        </p:grpSpPr>
        <p:sp>
          <p:nvSpPr>
            <p:cNvPr id="228" name="Rectangle 3"/>
            <p:cNvSpPr/>
            <p:nvPr/>
          </p:nvSpPr>
          <p:spPr>
            <a:xfrm>
              <a:off x="1219320" y="1447920"/>
              <a:ext cx="6858000" cy="1447560"/>
            </a:xfrm>
            <a:prstGeom prst="rect">
              <a:avLst/>
            </a:prstGeom>
            <a:solidFill>
              <a:srgbClr val="2301cb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Text Box 4"/>
            <p:cNvSpPr/>
            <p:nvPr/>
          </p:nvSpPr>
          <p:spPr>
            <a:xfrm>
              <a:off x="1303920" y="1674720"/>
              <a:ext cx="482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APR  =                      </a:t>
              </a:r>
              <a:r>
                <a:rPr b="1" lang="en-US" sz="4000" spc="-1" strike="noStrike">
                  <a:solidFill>
                    <a:srgbClr val="ffffcc"/>
                  </a:solidFill>
                  <a:latin typeface="Arial"/>
                </a:rPr>
                <a:t>x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Line 5"/>
            <p:cNvSpPr/>
            <p:nvPr/>
          </p:nvSpPr>
          <p:spPr>
            <a:xfrm>
              <a:off x="3352680" y="2133360"/>
              <a:ext cx="182880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Line 6"/>
            <p:cNvSpPr/>
            <p:nvPr/>
          </p:nvSpPr>
          <p:spPr>
            <a:xfrm>
              <a:off x="6553080" y="2133360"/>
              <a:ext cx="114300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9907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erest                  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incipal             ti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:  If you pay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$637.5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 interest on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$10,0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principal for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month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47712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2"/>
          <p:cNvGrpSpPr/>
          <p:nvPr/>
        </p:nvGrpSpPr>
        <p:grpSpPr>
          <a:xfrm>
            <a:off x="1219320" y="1447920"/>
            <a:ext cx="6858000" cy="1447560"/>
            <a:chOff x="1219320" y="1447920"/>
            <a:chExt cx="6858000" cy="1447560"/>
          </a:xfrm>
        </p:grpSpPr>
        <p:sp>
          <p:nvSpPr>
            <p:cNvPr id="235" name="Rectangle 3"/>
            <p:cNvSpPr/>
            <p:nvPr/>
          </p:nvSpPr>
          <p:spPr>
            <a:xfrm>
              <a:off x="1219320" y="1447920"/>
              <a:ext cx="6858000" cy="1447560"/>
            </a:xfrm>
            <a:prstGeom prst="rect">
              <a:avLst/>
            </a:prstGeom>
            <a:solidFill>
              <a:srgbClr val="2301cb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Text Box 4"/>
            <p:cNvSpPr/>
            <p:nvPr/>
          </p:nvSpPr>
          <p:spPr>
            <a:xfrm>
              <a:off x="1303920" y="1674720"/>
              <a:ext cx="4829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APR  =                      </a:t>
              </a:r>
              <a:r>
                <a:rPr b="1" lang="en-US" sz="4000" spc="-1" strike="noStrike">
                  <a:solidFill>
                    <a:srgbClr val="ffffcc"/>
                  </a:solidFill>
                  <a:latin typeface="Arial"/>
                </a:rPr>
                <a:t>x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Line 5"/>
            <p:cNvSpPr/>
            <p:nvPr/>
          </p:nvSpPr>
          <p:spPr>
            <a:xfrm>
              <a:off x="3352680" y="2133360"/>
              <a:ext cx="182880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Line 6"/>
            <p:cNvSpPr/>
            <p:nvPr/>
          </p:nvSpPr>
          <p:spPr>
            <a:xfrm>
              <a:off x="6553080" y="2133360"/>
              <a:ext cx="114300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9907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erest                  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incipal             ti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:  If you pay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$637.5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 interest on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$10,0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principal for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month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PR  =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637.5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,000 </a:t>
            </a: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x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1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75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.08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.5%  AP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47712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nnual Percentage Yield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 (APY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s similar to APR, except that it accounts for compound interest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295280" y="380880"/>
            <a:ext cx="655344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2"/>
          <p:cNvGrpSpPr/>
          <p:nvPr/>
        </p:nvGrpSpPr>
        <p:grpSpPr>
          <a:xfrm>
            <a:off x="1295280" y="3657600"/>
            <a:ext cx="6933960" cy="1752480"/>
            <a:chOff x="1295280" y="3657600"/>
            <a:chExt cx="6933960" cy="1752480"/>
          </a:xfrm>
        </p:grpSpPr>
        <p:grpSp>
          <p:nvGrpSpPr>
            <p:cNvPr id="244" name="Group 3"/>
            <p:cNvGrpSpPr/>
            <p:nvPr/>
          </p:nvGrpSpPr>
          <p:grpSpPr>
            <a:xfrm>
              <a:off x="1295280" y="3657600"/>
              <a:ext cx="6933960" cy="1752480"/>
              <a:chOff x="1295280" y="3657600"/>
              <a:chExt cx="6933960" cy="1752480"/>
            </a:xfrm>
          </p:grpSpPr>
          <p:sp>
            <p:nvSpPr>
              <p:cNvPr id="245" name="Rectangle 4"/>
              <p:cNvSpPr/>
              <p:nvPr/>
            </p:nvSpPr>
            <p:spPr>
              <a:xfrm>
                <a:off x="1295280" y="3657600"/>
                <a:ext cx="6933960" cy="1752480"/>
              </a:xfrm>
              <a:prstGeom prst="rect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Text Box 5"/>
              <p:cNvSpPr/>
              <p:nvPr/>
            </p:nvSpPr>
            <p:spPr>
              <a:xfrm>
                <a:off x="1447560" y="3657600"/>
                <a:ext cx="66596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cc"/>
                    </a:solidFill>
                    <a:latin typeface="Times New Roman"/>
                  </a:rPr>
                  <a:t>APY  =  </a:t>
                </a:r>
                <a:r>
                  <a:rPr b="1" lang="en-US" sz="8800" spc="-1" strike="noStrike">
                    <a:solidFill>
                      <a:srgbClr val="ffffcc"/>
                    </a:solidFill>
                    <a:latin typeface="Times New Roman"/>
                  </a:rPr>
                  <a:t>(</a:t>
                </a:r>
                <a:r>
                  <a:rPr b="1" lang="en-US" sz="4800" spc="-1" strike="noStrike">
                    <a:solidFill>
                      <a:srgbClr val="ffffcc"/>
                    </a:solidFill>
                    <a:latin typeface="Times New Roman"/>
                  </a:rPr>
                  <a:t>  1  +      </a:t>
                </a:r>
                <a:r>
                  <a:rPr b="1" lang="en-US" sz="8800" spc="-1" strike="noStrike">
                    <a:solidFill>
                      <a:srgbClr val="ffffcc"/>
                    </a:solidFill>
                    <a:latin typeface="Times New Roman"/>
                  </a:rPr>
                  <a:t>)</a:t>
                </a:r>
                <a:r>
                  <a:rPr b="1" lang="en-US" sz="4800" spc="-1" strike="noStrike">
                    <a:solidFill>
                      <a:srgbClr val="ffffcc"/>
                    </a:solidFill>
                    <a:latin typeface="Times New Roman"/>
                  </a:rPr>
                  <a:t>   -  1</a:t>
                </a:r>
                <a:endParaRPr b="0" lang="en-US" sz="4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47" name="Line 6"/>
            <p:cNvSpPr/>
            <p:nvPr/>
          </p:nvSpPr>
          <p:spPr>
            <a:xfrm>
              <a:off x="5715000" y="4572000"/>
              <a:ext cx="53352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nnual Percentage Yield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 (APY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s similar to APR, except that it accounts for compound interest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     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1295280" y="380880"/>
            <a:ext cx="655344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Group 2"/>
          <p:cNvGrpSpPr/>
          <p:nvPr/>
        </p:nvGrpSpPr>
        <p:grpSpPr>
          <a:xfrm>
            <a:off x="1295280" y="3657600"/>
            <a:ext cx="6933960" cy="1752480"/>
            <a:chOff x="1295280" y="3657600"/>
            <a:chExt cx="6933960" cy="1752480"/>
          </a:xfrm>
        </p:grpSpPr>
        <p:grpSp>
          <p:nvGrpSpPr>
            <p:cNvPr id="251" name="Group 3"/>
            <p:cNvGrpSpPr/>
            <p:nvPr/>
          </p:nvGrpSpPr>
          <p:grpSpPr>
            <a:xfrm>
              <a:off x="1295280" y="3657600"/>
              <a:ext cx="6933960" cy="1752480"/>
              <a:chOff x="1295280" y="3657600"/>
              <a:chExt cx="6933960" cy="1752480"/>
            </a:xfrm>
          </p:grpSpPr>
          <p:sp>
            <p:nvSpPr>
              <p:cNvPr id="252" name="Rectangle 4"/>
              <p:cNvSpPr/>
              <p:nvPr/>
            </p:nvSpPr>
            <p:spPr>
              <a:xfrm>
                <a:off x="1295280" y="3657600"/>
                <a:ext cx="6933960" cy="1752480"/>
              </a:xfrm>
              <a:prstGeom prst="rect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3" name="Text Box 5"/>
              <p:cNvSpPr/>
              <p:nvPr/>
            </p:nvSpPr>
            <p:spPr>
              <a:xfrm>
                <a:off x="1447560" y="3657600"/>
                <a:ext cx="66596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cc"/>
                    </a:solidFill>
                    <a:latin typeface="Times New Roman"/>
                  </a:rPr>
                  <a:t>APY  =  </a:t>
                </a:r>
                <a:r>
                  <a:rPr b="1" lang="en-US" sz="8800" spc="-1" strike="noStrike">
                    <a:solidFill>
                      <a:srgbClr val="ffffcc"/>
                    </a:solidFill>
                    <a:latin typeface="Times New Roman"/>
                  </a:rPr>
                  <a:t>(</a:t>
                </a:r>
                <a:r>
                  <a:rPr b="1" lang="en-US" sz="4800" spc="-1" strike="noStrike">
                    <a:solidFill>
                      <a:srgbClr val="ffffcc"/>
                    </a:solidFill>
                    <a:latin typeface="Times New Roman"/>
                  </a:rPr>
                  <a:t>  1  +      </a:t>
                </a:r>
                <a:r>
                  <a:rPr b="1" lang="en-US" sz="8800" spc="-1" strike="noStrike">
                    <a:solidFill>
                      <a:srgbClr val="ffffcc"/>
                    </a:solidFill>
                    <a:latin typeface="Times New Roman"/>
                  </a:rPr>
                  <a:t>)</a:t>
                </a:r>
                <a:r>
                  <a:rPr b="1" lang="en-US" sz="4800" spc="-1" strike="noStrike">
                    <a:solidFill>
                      <a:srgbClr val="ffffcc"/>
                    </a:solidFill>
                    <a:latin typeface="Times New Roman"/>
                  </a:rPr>
                  <a:t>   -  1</a:t>
                </a:r>
                <a:endParaRPr b="0" lang="en-US" sz="4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4" name="Line 6"/>
            <p:cNvSpPr/>
            <p:nvPr/>
          </p:nvSpPr>
          <p:spPr>
            <a:xfrm>
              <a:off x="5715000" y="4572000"/>
              <a:ext cx="533520" cy="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Annual Percentage Yield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 (APY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s similar to APR, except that it accounts for compound interest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     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 = the nominal rate of inter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 = the # of compounding periods per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295280" y="380880"/>
            <a:ext cx="655344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at is the (APY) of a 9% loan wit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nthly payments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PY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=  ( 1 + ( .09 / 12 ) 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-1 ) =  .0938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=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9.38%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820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ources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nsecur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820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ources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nsecur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crued wages and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820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ources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nsecur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crued wages and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ade cred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820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ources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nsecur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crued wages and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ade cred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nk cred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55308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Working-Capital Management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urrent Liabilit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hort-term notes, accrued expenses, accounts pay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ng-Term Debt and Equ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onds, preferred stock, common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hich are mor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expensiv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for the firm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hich help avoid risk of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lliquidity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820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ources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nsecur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crued wages and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ade cred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nk cred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ommercial pap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820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ources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nsecur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crued wages and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ade cred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nk cred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ommercial pap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cur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820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ources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nsecur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crued wages and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ade cred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nk cred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ommercial pap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cur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counts receivable loa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82040" cy="9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ources of Short-term Cred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nsecur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crued wages and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ade cred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nk cred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ommercial pap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cur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counts receivable loa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ventory loa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80880" y="4343400"/>
            <a:ext cx="8153640" cy="205740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6553080" cy="8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Working-Capital Management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urren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iabilit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hort-term notes, accrued expenses, accounts payab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ng-Term Debt and Equ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onds, preferred stock, common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isk-Return Trade-off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urrent liabilities are less expensive, but increase th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risk of illiquidit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o illustrate, let’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nance all current assets with current liabilitie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1219320" y="914400"/>
            <a:ext cx="6781680" cy="3276720"/>
            <a:chOff x="1219320" y="914400"/>
            <a:chExt cx="6781680" cy="3276720"/>
          </a:xfrm>
        </p:grpSpPr>
        <p:sp>
          <p:nvSpPr>
            <p:cNvPr id="106" name="Line 4"/>
            <p:cNvSpPr/>
            <p:nvPr/>
          </p:nvSpPr>
          <p:spPr>
            <a:xfrm>
              <a:off x="1219320" y="914400"/>
              <a:ext cx="678168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Line 5"/>
            <p:cNvSpPr/>
            <p:nvPr/>
          </p:nvSpPr>
          <p:spPr>
            <a:xfrm>
              <a:off x="1219320" y="2133720"/>
              <a:ext cx="678168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Line 6"/>
            <p:cNvSpPr/>
            <p:nvPr/>
          </p:nvSpPr>
          <p:spPr>
            <a:xfrm>
              <a:off x="4572000" y="914400"/>
              <a:ext cx="0" cy="327672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1219320" y="914400"/>
            <a:ext cx="6781680" cy="1219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urrent Assets      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o illustrate, let’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nance all current assets with current liabilitie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1219320" y="914400"/>
            <a:ext cx="6781680" cy="3276720"/>
            <a:chOff x="1219320" y="914400"/>
            <a:chExt cx="6781680" cy="3276720"/>
          </a:xfrm>
        </p:grpSpPr>
        <p:sp>
          <p:nvSpPr>
            <p:cNvPr id="112" name="Line 4"/>
            <p:cNvSpPr/>
            <p:nvPr/>
          </p:nvSpPr>
          <p:spPr>
            <a:xfrm>
              <a:off x="1219320" y="914400"/>
              <a:ext cx="678168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1219320" y="2133720"/>
              <a:ext cx="678168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Line 6"/>
            <p:cNvSpPr/>
            <p:nvPr/>
          </p:nvSpPr>
          <p:spPr>
            <a:xfrm>
              <a:off x="4572000" y="914400"/>
              <a:ext cx="0" cy="327672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o illustrate, let’s finance all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with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liabilitie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nance all fixed assets with long-term financing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1219320" y="914400"/>
            <a:ext cx="6781680" cy="3276720"/>
            <a:chOff x="1219320" y="914400"/>
            <a:chExt cx="6781680" cy="3276720"/>
          </a:xfrm>
        </p:grpSpPr>
        <p:sp>
          <p:nvSpPr>
            <p:cNvPr id="117" name="Line 4"/>
            <p:cNvSpPr/>
            <p:nvPr/>
          </p:nvSpPr>
          <p:spPr>
            <a:xfrm>
              <a:off x="1219320" y="914400"/>
              <a:ext cx="678168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>
              <a:off x="1219320" y="2133720"/>
              <a:ext cx="678168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9" name="Line 6"/>
            <p:cNvSpPr/>
            <p:nvPr/>
          </p:nvSpPr>
          <p:spPr>
            <a:xfrm>
              <a:off x="4572000" y="914400"/>
              <a:ext cx="0" cy="327672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1219320" y="2133720"/>
            <a:ext cx="6781680" cy="205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alance Shee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xed Asse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mmon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o illustrate, let’s finance all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with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liabilitie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nance all fixed assets with long-term financing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219320" y="914400"/>
            <a:ext cx="6781680" cy="3276720"/>
            <a:chOff x="1219320" y="914400"/>
            <a:chExt cx="6781680" cy="3276720"/>
          </a:xfrm>
        </p:grpSpPr>
        <p:sp>
          <p:nvSpPr>
            <p:cNvPr id="123" name="Line 4"/>
            <p:cNvSpPr/>
            <p:nvPr/>
          </p:nvSpPr>
          <p:spPr>
            <a:xfrm>
              <a:off x="1219320" y="914400"/>
              <a:ext cx="678168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Line 5"/>
            <p:cNvSpPr/>
            <p:nvPr/>
          </p:nvSpPr>
          <p:spPr>
            <a:xfrm>
              <a:off x="1219320" y="2133720"/>
              <a:ext cx="678168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Line 6"/>
            <p:cNvSpPr/>
            <p:nvPr/>
          </p:nvSpPr>
          <p:spPr>
            <a:xfrm>
              <a:off x="4572000" y="914400"/>
              <a:ext cx="0" cy="327672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21:20:16Z</dcterms:created>
  <dc:creator>Anthony K. Byrd, Associate Professor of Finance</dc:creator>
  <dc:description/>
  <dc:language>en-US</dc:language>
  <cp:lastModifiedBy>keran sohail</cp:lastModifiedBy>
  <dcterms:modified xsi:type="dcterms:W3CDTF">2020-04-02T06:37:47Z</dcterms:modified>
  <cp:revision>13</cp:revision>
  <dc:subject>Ch. 18:  Working Capital Management and Short-Term Financing</dc:subject>
  <dc:title>Financial Management</dc:title>
</cp:coreProperties>
</file>